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F55-D72C-44D8-B2BF-85C9E6FC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049-A45F-4194-AAC6-69EEF3C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948-1B13-4103-AB8D-6F64DEDD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CF5-5B30-4E6D-8FA8-90C4D52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6E3-329E-462F-BA17-573FCA4C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5B7-07A1-4F83-A1D2-8FF1960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842-131D-4971-BC6F-13BBD4A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87F-D09F-4993-9BE1-C74D4650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AF2-B6DF-4F6B-B47F-94B3687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EC2-850E-4C01-8775-081C495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C14-F173-4BBD-B774-7EB1BC1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643-B2DB-403C-8415-467251CB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0170-AB2F-4BE5-BD8D-F97FA2A2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549360"/>
            <a:ext cx="47563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hra Beh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2460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24000" y="0"/>
            <a:ext cx="491652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phra Behn's Lif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276640"/>
            <a:ext cx="83534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was almost certainly born i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y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ar Canterbury, on July, 10 1640 to Bartholomew Johnson, a barber, and Elizabeth Denh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may have had a Catholic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hn was firmly dedicated to the restored King Charles II. As political parties first emerged during this time, Behn was a Tory supporter and she often used her writings to attack the parliamentary Wh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1664 Aphra Johnson married Johan Behn, who was a merchant of German or Dutch extraction but their marriage didn’t last for more than a few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was reportedly bisexual, and held a larger attraction to women than to men, a trait that, with her writings and references of this nature, would eventually make her popular in the writing and artistic communities of the 20th century and present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y 1666 Behn had become attached to the Court because she was recruited as a political spy to Antwerp by Charles II. Her code name for her exploits is said to have bee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stre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 name under which she subsequently published much of her writ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he became the lover to a prominent and powerful royal, and from him she obtained political secrets to be used to the English advan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ehn's exploits were not profitable; For  period Charles payed for her but then she ended up in a debtor's prison. By 1669 an undisclosed source had paid Behn's debts, and she was released from prison, starting from this point to become one of the first women who wrote for a li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he starting in 1670 she produced many plays and novels, as well as poems and pamphlets. Her most popular works included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he Rov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ove-Letter Between a Nobleman and His Sist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oonok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hra Behn died on April 16, 1689, and was buried in Westminster Abbey. Below the inscription on her tombstone read the words: "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Here lies a Proof that Wit can never be / Defence enough against Mortality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" She was quoted as once stating that she had led a "life dedicated to pleasure and poetry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hra Behn’s writing is unique for its time because of her use of the narrator’s voice and her innovative use of visual deceptions in her plays.She takes on a narrative voice that is characteristically her own by using a removed but somehow still involved narrator in Oroonoko and changing to a different, ironic voice in other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r imagined world is not strictly without men, but sex is entirely on women's terms. Women, in this world, have complete sexual control and a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9:31:56Z</dcterms:created>
  <dc:creator>nicole</dc:creator>
  <dc:description/>
  <dc:language>en-US</dc:language>
  <cp:lastModifiedBy>nicole</cp:lastModifiedBy>
  <dcterms:modified xsi:type="dcterms:W3CDTF">2009-02-25T20:56:54Z</dcterms:modified>
  <cp:revision>2</cp:revision>
  <dc:subject/>
  <dc:title>Diapositiva 1</dc:title>
</cp:coreProperties>
</file>